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E6A8-A948-4242-860E-E00113B45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C0F5-C73D-4C81-A8CA-F1F5F754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41BB-70FF-4206-B1FB-D36766C4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C059-1270-428D-8933-E62B81A4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C839-C3D8-4F0C-BE25-6D3928CB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B991-7868-48E6-BB0E-C008E0F9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DF7D-6A22-41B1-B6E5-A6628286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BBE9-AEDD-4682-BE02-C9237878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419A-EBA6-41AC-A888-F7303702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8821-819A-4A92-BDB1-BEAD7364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5ECB-DA7F-4971-B327-006A6449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B197-130A-4B08-A585-9C946C71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9533-E557-47E9-B0DA-EAE0921DCA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0"/>
            <a:ext cx="784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Державне нерухоме майно, що знаходиться на балансі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1752480"/>
            <a:ext cx="1600200" cy="99072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600200"/>
            <a:ext cx="4343400" cy="2743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1143000"/>
            <a:ext cx="44960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 u="sng">
                <a:solidFill>
                  <a:srgbClr val="000000"/>
                </a:solidFill>
                <a:uFillTx/>
                <a:latin typeface="Times New Roman"/>
              </a:rPr>
              <a:t>16502790.1 Комплекс по виробництву цегли </a:t>
            </a:r>
            <a:r>
              <a:rPr b="0" lang="uk-UA" sz="800" spc="-1" strike="noStrike" u="sng">
                <a:solidFill>
                  <a:srgbClr val="000000"/>
                </a:solidFill>
                <a:uFillTx/>
                <a:latin typeface="Times New Roman"/>
              </a:rPr>
              <a:t>(401 Майнові комплекси промислового виробництва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 u="sng">
                <a:solidFill>
                  <a:srgbClr val="000000"/>
                </a:solidFill>
                <a:uFillTx/>
                <a:latin typeface="Times New Roman"/>
              </a:rPr>
              <a:t>м. Київ, вул. Промислова, 4-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438280"/>
            <a:ext cx="1600200" cy="30492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2160" y="1905120"/>
            <a:ext cx="133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220.5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Адміністративно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побутові будівлі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промислових підприємств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2438280"/>
            <a:ext cx="167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1. УХЗЮАЗ017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поверх Адмін будинку (ін.№ 1586 1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8040" y="3200400"/>
            <a:ext cx="1600200" cy="99072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3429000"/>
            <a:ext cx="152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1. УХЗЮАЗ0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Цех №1 (ін.№ 8081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1251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8 Будівлі підприємств будівельної індустрії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3200400"/>
            <a:ext cx="1600200" cy="99072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3429000"/>
            <a:ext cx="146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1. УХЗЮАЗ019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Цех №2 (ін.№ 1104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1251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8 Будівлі підприємств будівельної індустрії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676520"/>
            <a:ext cx="3886200" cy="25905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441972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2421.1 Огородження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3429000" y="2057400"/>
            <a:ext cx="1371600" cy="7617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405000" cy="457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362320" y="2286000"/>
            <a:ext cx="40464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438280" y="1828800"/>
            <a:ext cx="405000" cy="457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057400" y="2286000"/>
            <a:ext cx="404640" cy="457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743200" y="2362320"/>
            <a:ext cx="404640" cy="457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19520" y="1676520"/>
            <a:ext cx="1371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1. УХЗЮАЗ020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Благоустрі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(ін. №110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3199.9 Благоустрі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00600" y="1143000"/>
            <a:ext cx="38862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 u="sng">
                <a:solidFill>
                  <a:srgbClr val="000000"/>
                </a:solidFill>
                <a:uFillTx/>
                <a:latin typeface="Times New Roman"/>
              </a:rPr>
              <a:t>16502790.2 База відпочинку </a:t>
            </a:r>
            <a:r>
              <a:rPr b="0" lang="uk-UA" sz="800" spc="-1" strike="noStrike" u="sng">
                <a:solidFill>
                  <a:srgbClr val="000000"/>
                </a:solidFill>
                <a:uFillTx/>
                <a:latin typeface="Times New Roman"/>
              </a:rPr>
              <a:t>(103 Об'єкти відпочинку та туризму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 u="sng">
                <a:solidFill>
                  <a:srgbClr val="000000"/>
                </a:solidFill>
                <a:uFillTx/>
                <a:latin typeface="Times New Roman"/>
              </a:rPr>
              <a:t>п. Гурзуф, ул. Гайдара,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160020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1676520"/>
            <a:ext cx="1600200" cy="99036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57800" y="1905120"/>
            <a:ext cx="1316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2. УХЗЮАЗ023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Корпус 1 (ін.№ 795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1212.3 Центри та будинк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відпочинку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3276720"/>
            <a:ext cx="1600200" cy="99036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34320" y="3276720"/>
            <a:ext cx="1600200" cy="99036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1676520"/>
            <a:ext cx="1600200" cy="99036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5105520"/>
            <a:ext cx="3657600" cy="1523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5562720"/>
            <a:ext cx="1600200" cy="99036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5867280"/>
            <a:ext cx="16002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3. УХЗЮАЗ029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Конюшня на 82 голів (ін. №903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1271.1 Будівля для тваринництв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81280" y="5486400"/>
            <a:ext cx="228600" cy="1066680"/>
          </a:xfrm>
          <a:prstGeom prst="flowChartCollat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648320"/>
            <a:ext cx="42670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 u="sng">
                <a:solidFill>
                  <a:srgbClr val="000000"/>
                </a:solidFill>
                <a:uFillTx/>
                <a:latin typeface="Times New Roman"/>
              </a:rPr>
              <a:t>16502790.3 Конюшня </a:t>
            </a:r>
            <a:r>
              <a:rPr b="0" lang="uk-UA" sz="800" spc="-1" strike="noStrike" u="sng">
                <a:solidFill>
                  <a:srgbClr val="000000"/>
                </a:solidFill>
                <a:uFillTx/>
                <a:latin typeface="Times New Roman"/>
              </a:rPr>
              <a:t>(402 Об'єкти сільськогосподарського призначення, лісівництва та рибного господарства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 u="sng">
                <a:solidFill>
                  <a:srgbClr val="000000"/>
                </a:solidFill>
                <a:uFillTx/>
                <a:latin typeface="Times New Roman"/>
              </a:rPr>
              <a:t>с. Новий Шлях, Козелецький р-н, Чернігівська обл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380880"/>
            <a:ext cx="838188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</a:rPr>
              <a:t>Ідентифікаційний код ЄДРПОУ</a:t>
            </a: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 балансаутримувача: 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1650279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вне найменування балансоутримувача: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ДЕРЖАВНЕ ПІДПРИЄМСТВО "СВІТЯЗЬ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Місцезнаходження балансоутримувача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м.Київ, вул.Промислова, 4-а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Загальний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змір земельної ділянки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166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423 м  кв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281952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. УХЗЮАЗ021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Земельна ділянка (інв.№0120) – 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(1083211,5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м  кв.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        3102.2 Землі промисловості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27432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. УХЗЮАЗ028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Земельна ділянка (інв.№0121) – 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(541 605,75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м  кв.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        3102.2 Землі оздоровчого призначенн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5105520"/>
            <a:ext cx="358128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. УХЗЮАЗ031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Земельна ділянка (інв.№0122) – 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(141 605,75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м  кв.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        3102.1 Землі промисловості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. УХЗЮАЗ032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Земельна ділянка (інв.№0124) – </a:t>
            </a: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400 000,0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м  кв.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3100.1 Землі сільськогосподарського призначенн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1143000"/>
            <a:ext cx="8686800" cy="5562720"/>
          </a:xfrm>
          <a:prstGeom prst="rect">
            <a:avLst/>
          </a:prstGeom>
          <a:noFill/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86600" y="5791320"/>
            <a:ext cx="1600200" cy="83808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6324480"/>
            <a:ext cx="1600200" cy="30492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9240" y="6324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Державне май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4000" y="601992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Недержавне май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571500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343400"/>
            <a:ext cx="152388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714640" y="4343400"/>
            <a:ext cx="1522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52880" y="60958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Загальний р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змір земельної ділянки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166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423 м  кв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81480" y="3505320"/>
            <a:ext cx="14479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. УХЗЮАЗ025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Ідальня  (ін.№ 795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1230.4 Ідальні, кафе, закусочні та т.ін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4419720"/>
            <a:ext cx="259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1. УХЗЮАЗ016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Ворота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(ін.№752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10280" y="3505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2. УХЗЮАЗ026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Сарай (ін. № 81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1274.6 Господарські будівлі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4419720"/>
            <a:ext cx="3505320" cy="228600"/>
          </a:xfrm>
          <a:prstGeom prst="wedgeRoundRectCallout">
            <a:avLst>
              <a:gd name="adj1" fmla="val -54754"/>
              <a:gd name="adj2" fmla="val -14444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95680" y="4495680"/>
            <a:ext cx="1600200" cy="838440"/>
          </a:xfrm>
          <a:prstGeom prst="wedgeRoundRectCallout">
            <a:avLst>
              <a:gd name="adj1" fmla="val -61606"/>
              <a:gd name="adj2" fmla="val -22689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1. УХЗЮАЗ022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Дорога (ін.№ 5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2112.2 Позаміські, об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їзні та окружні дорог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133720" y="5714280"/>
            <a:ext cx="1371600" cy="762120"/>
          </a:xfrm>
          <a:prstGeom prst="wedgeRoundRectCallout">
            <a:avLst>
              <a:gd name="adj1" fmla="val -63310"/>
              <a:gd name="adj2" fmla="val 458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rot="10800000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3. УХЗЮАЗ0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Артскважина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(Ін. №012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2222.4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яні свердловини, колодязі, бювети 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86600" y="1905120"/>
            <a:ext cx="13161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 УХЗЮАЗ024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Корпус 2 (ін.№ 812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1212.3 Центри та будинк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відпочинку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6T12:40:10Z</dcterms:created>
  <dc:creator>Well</dc:creator>
  <dc:description/>
  <dc:language>en-US</dc:language>
  <cp:lastModifiedBy>star777</cp:lastModifiedBy>
  <dcterms:modified xsi:type="dcterms:W3CDTF">2006-05-12T11:34:54Z</dcterms:modified>
  <cp:revision>23</cp:revision>
  <dc:subject/>
  <dc:title>Презентация PowerPoint</dc:title>
</cp:coreProperties>
</file>