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8EF-BD1C-4E5E-ADB2-AD241ED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C83-E70A-46A6-B9BC-E5C6F03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636-E0A3-4EA6-A7E4-D6EAC3A4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6B5-0EB7-4091-9A9D-0307643E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AD8-2DDB-4589-BE11-188E4D6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E49-4589-449C-8120-A633E051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501-D817-41ED-BC21-4F79B3EB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37B-DFAF-4AD0-99BE-9D7A313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783-2117-4500-813F-2EDF82E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F42-4A10-48B4-AB2C-95013F2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C86-66F1-4115-A538-5277B87E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328-2DCD-406C-BD4B-552FE02E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781-E77B-4F62-AED6-38145808D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одаток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4"/>
          <p:cNvSpPr/>
          <p:nvPr/>
        </p:nvSpPr>
        <p:spPr>
          <a:xfrm rot="5400000">
            <a:off x="3429000" y="2057400"/>
            <a:ext cx="1371600" cy="7617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1760"/>
              <a:gd name="textAreaBottom" fmla="*/ 271800 h 761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199" y="7817"/>
                  <a:pt x="16199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7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2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35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9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47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3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54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7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1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4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7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08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9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0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1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3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4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5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1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4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9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78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80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1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2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ДМИТРУК Ганна Михайлівна</cp:lastModifiedBy>
  <dcterms:modified xsi:type="dcterms:W3CDTF">2020-12-29T13:58:48Z</dcterms:modified>
  <cp:revision>24</cp:revision>
  <dc:subject/>
  <dc:title>Презентация PowerPoint</dc:title>
</cp:coreProperties>
</file>