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FB9-1D85-4CC9-87E5-F8E68BE8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0E0-92DC-4F3D-9511-57D15D32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F50-1FDA-4160-84FA-35359F8D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029-04EA-41B9-8FA4-C3746B43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499-BC1D-4783-AD39-A529EBD9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D0C-44E8-4E8B-AC72-031FB559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660-4338-40EF-AF34-FF402E06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C4F-BCB0-4745-9035-3319D638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9CF-DD9A-4330-A88F-87884F6B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3C6-FCED-4004-8F27-7A6B0D41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FAA-BF5B-4B4C-9963-DA2FF2FB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71C-E9B1-4EDE-AACB-2F46D8A1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F0DF-B854-4B1C-A15B-E15DBDC92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30120" y="228600"/>
            <a:ext cx="9194760" cy="990720"/>
            <a:chOff x="330120" y="228600"/>
            <a:chExt cx="9194760" cy="990720"/>
          </a:xfrm>
        </p:grpSpPr>
        <p:pic>
          <p:nvPicPr>
            <p:cNvPr id="42" name="Picture 3" descr="3zub"/>
            <p:cNvPicPr/>
            <p:nvPr/>
          </p:nvPicPr>
          <p:blipFill>
            <a:blip r:embed="rId1"/>
            <a:stretch/>
          </p:blipFill>
          <p:spPr>
            <a:xfrm>
              <a:off x="330120" y="228600"/>
              <a:ext cx="7858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4"/>
            <p:cNvSpPr/>
            <p:nvPr/>
          </p:nvSpPr>
          <p:spPr>
            <a:xfrm>
              <a:off x="1307160" y="228600"/>
              <a:ext cx="13021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ФОН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ДЕРЖАВНОГ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МАЙ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УКРАЇН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3200400" y="609480"/>
              <a:ext cx="6324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Rectangle 103"/>
          <p:cNvSpPr/>
          <p:nvPr/>
        </p:nvSpPr>
        <p:spPr>
          <a:xfrm>
            <a:off x="4529520" y="714240"/>
            <a:ext cx="503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ількість приватизованих об'єктів малої приватизаці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1"/>
          <p:cNvSpPr/>
          <p:nvPr/>
        </p:nvSpPr>
        <p:spPr>
          <a:xfrm rot="16200000">
            <a:off x="-133560" y="3368520"/>
            <a:ext cx="1340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ількість підприємст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Диаграмма 12"/>
          <p:cNvGraphicFramePr/>
          <p:nvPr/>
        </p:nvGraphicFramePr>
        <p:xfrm>
          <a:off x="685800" y="1143000"/>
          <a:ext cx="9220320" cy="490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" name="Диаграмма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143000"/>
                    <a:ext cx="922032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6"/>
          <p:cNvSpPr/>
          <p:nvPr/>
        </p:nvSpPr>
        <p:spPr>
          <a:xfrm>
            <a:off x="8217720" y="357120"/>
            <a:ext cx="128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риватизаці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810480" y="142920"/>
            <a:ext cx="268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 Cyr"/>
              </a:rPr>
              <a:t>Додаток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2"/>
          <p:cNvSpPr/>
          <p:nvPr/>
        </p:nvSpPr>
        <p:spPr>
          <a:xfrm rot="16200000">
            <a:off x="8016480" y="3573360"/>
            <a:ext cx="3184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Кількість підприємств / накопичувальним підсумком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330120" y="228600"/>
            <a:ext cx="9194760" cy="990720"/>
            <a:chOff x="330120" y="228600"/>
            <a:chExt cx="9194760" cy="990720"/>
          </a:xfrm>
        </p:grpSpPr>
        <p:pic>
          <p:nvPicPr>
            <p:cNvPr id="53" name="Picture 3" descr="3zub"/>
            <p:cNvPicPr/>
            <p:nvPr/>
          </p:nvPicPr>
          <p:blipFill>
            <a:blip r:embed="rId1"/>
            <a:stretch/>
          </p:blipFill>
          <p:spPr>
            <a:xfrm>
              <a:off x="330120" y="228600"/>
              <a:ext cx="7858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4"/>
            <p:cNvSpPr/>
            <p:nvPr/>
          </p:nvSpPr>
          <p:spPr>
            <a:xfrm>
              <a:off x="1307160" y="228600"/>
              <a:ext cx="13021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ФОН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ДЕРЖАВНОГ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МАЙ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УКРАЇН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3200400" y="609480"/>
              <a:ext cx="6324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Rectangle 82"/>
          <p:cNvSpPr/>
          <p:nvPr/>
        </p:nvSpPr>
        <p:spPr>
          <a:xfrm>
            <a:off x="2666880" y="685800"/>
            <a:ext cx="685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ількість приватизованих об'єктів незавершеног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удівниц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 rot="16200000">
            <a:off x="87480" y="3489840"/>
            <a:ext cx="1059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ількість об'єкті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 rot="16200000">
            <a:off x="7942320" y="3361320"/>
            <a:ext cx="2904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ількість об'єктів / накопичувальним підсумком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5"/>
          <p:cNvSpPr/>
          <p:nvPr/>
        </p:nvSpPr>
        <p:spPr>
          <a:xfrm>
            <a:off x="424440" y="6308640"/>
            <a:ext cx="340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* - уточнена інформація з урахуванням дообліку та вилученн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8"/>
          <p:cNvGraphicFramePr/>
          <p:nvPr/>
        </p:nvGraphicFramePr>
        <p:xfrm>
          <a:off x="523800" y="1219320"/>
          <a:ext cx="9077400" cy="4638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3800" y="1219320"/>
                    <a:ext cx="907740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6"/>
          <p:cNvSpPr/>
          <p:nvPr/>
        </p:nvSpPr>
        <p:spPr>
          <a:xfrm>
            <a:off x="8217720" y="357120"/>
            <a:ext cx="128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риватизаці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810480" y="142920"/>
            <a:ext cx="268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 Cyr"/>
              </a:rPr>
              <a:t>Додаток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330120" y="228600"/>
            <a:ext cx="9194760" cy="990720"/>
            <a:chOff x="330120" y="228600"/>
            <a:chExt cx="9194760" cy="990720"/>
          </a:xfrm>
        </p:grpSpPr>
        <p:pic>
          <p:nvPicPr>
            <p:cNvPr id="65" name="Picture 3" descr="3zub"/>
            <p:cNvPicPr/>
            <p:nvPr/>
          </p:nvPicPr>
          <p:blipFill>
            <a:blip r:embed="rId1"/>
            <a:stretch/>
          </p:blipFill>
          <p:spPr>
            <a:xfrm>
              <a:off x="330120" y="228600"/>
              <a:ext cx="7858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1307160" y="228600"/>
              <a:ext cx="13021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ФОН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ДЕРЖАВНОГ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МАЙ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УКРАЇН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>
              <a:off x="3200400" y="609480"/>
              <a:ext cx="6324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Rectangle 82"/>
          <p:cNvSpPr/>
          <p:nvPr/>
        </p:nvSpPr>
        <p:spPr>
          <a:xfrm>
            <a:off x="2452680" y="685800"/>
            <a:ext cx="70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ількість об'єктів незавершеного будівництва, щ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в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йшли до статутних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апіта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ів приватизованих підприємст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 rot="16200000">
            <a:off x="-87120" y="3364200"/>
            <a:ext cx="140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ількість об'єкті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 rot="16200000">
            <a:off x="7841880" y="3838320"/>
            <a:ext cx="3273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ількість об'єктів / накопичувальним підсумком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9"/>
          <p:cNvGraphicFramePr/>
          <p:nvPr/>
        </p:nvGraphicFramePr>
        <p:xfrm>
          <a:off x="838080" y="1219320"/>
          <a:ext cx="8410680" cy="5048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841068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6"/>
          <p:cNvSpPr/>
          <p:nvPr/>
        </p:nvSpPr>
        <p:spPr>
          <a:xfrm>
            <a:off x="8217720" y="357120"/>
            <a:ext cx="128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риватизаці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810480" y="142920"/>
            <a:ext cx="268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 Cyr"/>
              </a:rPr>
              <a:t>Додаток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330120" y="228600"/>
            <a:ext cx="9194760" cy="990720"/>
            <a:chOff x="330120" y="228600"/>
            <a:chExt cx="9194760" cy="990720"/>
          </a:xfrm>
        </p:grpSpPr>
        <p:pic>
          <p:nvPicPr>
            <p:cNvPr id="76" name="Picture 3" descr="3zub"/>
            <p:cNvPicPr/>
            <p:nvPr/>
          </p:nvPicPr>
          <p:blipFill>
            <a:blip r:embed="rId1"/>
            <a:stretch/>
          </p:blipFill>
          <p:spPr>
            <a:xfrm>
              <a:off x="330120" y="228600"/>
              <a:ext cx="7858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4"/>
            <p:cNvSpPr/>
            <p:nvPr/>
          </p:nvSpPr>
          <p:spPr>
            <a:xfrm>
              <a:off x="1307160" y="228600"/>
              <a:ext cx="13021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ФОН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ДЕРЖАВНОГ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МАЙ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УКРАЇН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"/>
            <p:cNvSpPr/>
            <p:nvPr/>
          </p:nvSpPr>
          <p:spPr>
            <a:xfrm>
              <a:off x="3200400" y="609480"/>
              <a:ext cx="6324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2"/>
          <p:cNvSpPr/>
          <p:nvPr/>
        </p:nvSpPr>
        <p:spPr>
          <a:xfrm>
            <a:off x="3200400" y="692280"/>
            <a:ext cx="65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 Cyr"/>
              </a:rPr>
              <a:t>Створення акціонерних товариств  у 1992-201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</a:rPr>
              <a:t>1</a:t>
            </a:r>
            <a:r>
              <a:rPr b="1" lang="uk-UA" sz="1600" spc="-1" strike="noStrike">
                <a:solidFill>
                  <a:srgbClr val="000000"/>
                </a:solidFill>
                <a:latin typeface="Times New Roman Cyr"/>
              </a:rPr>
              <a:t> р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0"/>
          <p:cNvGraphicFramePr/>
          <p:nvPr/>
        </p:nvGraphicFramePr>
        <p:xfrm>
          <a:off x="781200" y="1400040"/>
          <a:ext cx="8924760" cy="47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" y="1400040"/>
                    <a:ext cx="89247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10"/>
          <p:cNvSpPr/>
          <p:nvPr/>
        </p:nvSpPr>
        <p:spPr>
          <a:xfrm rot="16200000">
            <a:off x="6480" y="3156480"/>
            <a:ext cx="1059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Кількість об'єкті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1"/>
          <p:cNvSpPr/>
          <p:nvPr/>
        </p:nvSpPr>
        <p:spPr>
          <a:xfrm rot="16200000">
            <a:off x="7942320" y="3432960"/>
            <a:ext cx="2904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Кількість об'єктів / накопичувальним підсумком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217720" y="357120"/>
            <a:ext cx="128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риватизаці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10480" y="142920"/>
            <a:ext cx="268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 Cyr"/>
              </a:rPr>
              <a:t>Додаток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30120" y="228600"/>
            <a:ext cx="9194760" cy="990720"/>
            <a:chOff x="330120" y="228600"/>
            <a:chExt cx="9194760" cy="990720"/>
          </a:xfrm>
        </p:grpSpPr>
        <p:pic>
          <p:nvPicPr>
            <p:cNvPr id="87" name="Picture 3" descr="3zub"/>
            <p:cNvPicPr/>
            <p:nvPr/>
          </p:nvPicPr>
          <p:blipFill>
            <a:blip r:embed="rId1"/>
            <a:stretch/>
          </p:blipFill>
          <p:spPr>
            <a:xfrm>
              <a:off x="330120" y="228600"/>
              <a:ext cx="7858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4"/>
            <p:cNvSpPr/>
            <p:nvPr/>
          </p:nvSpPr>
          <p:spPr>
            <a:xfrm>
              <a:off x="1306440" y="228600"/>
              <a:ext cx="13021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ФОН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ДЕРЖАВНОГ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МАЙ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УКРАЇН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3200400" y="609480"/>
              <a:ext cx="6324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2216160" y="685800"/>
            <a:ext cx="7269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наміка надходження до загального  фонду Державного бюджет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країни коштів від приватизації державного майна за 1992-20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ро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 rot="16200000">
            <a:off x="283680" y="3348360"/>
            <a:ext cx="578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 Cyr"/>
              </a:rPr>
              <a:t>Млн. грн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 rot="16200000">
            <a:off x="9427680" y="3491280"/>
            <a:ext cx="578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 Cyr"/>
              </a:rPr>
              <a:t>Млн</a:t>
            </a:r>
            <a:r>
              <a:rPr b="1" lang="uk-UA" sz="1100" spc="-1" strike="noStrike">
                <a:solidFill>
                  <a:srgbClr val="000000"/>
                </a:solidFill>
                <a:latin typeface="Times New Roman Cyr"/>
              </a:rPr>
              <a:t>. </a:t>
            </a:r>
            <a:r>
              <a:rPr b="0" lang="uk-UA" sz="1100" spc="-1" strike="noStrike">
                <a:solidFill>
                  <a:srgbClr val="000000"/>
                </a:solidFill>
                <a:latin typeface="Times New Roman Cyr"/>
              </a:rPr>
              <a:t>грн</a:t>
            </a:r>
            <a:r>
              <a:rPr b="1" lang="uk-UA" sz="1100" spc="-1" strike="noStrike">
                <a:solidFill>
                  <a:srgbClr val="000000"/>
                </a:solidFill>
                <a:latin typeface="Times New Roman Cyr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9"/>
          <p:cNvGraphicFramePr/>
          <p:nvPr/>
        </p:nvGraphicFramePr>
        <p:xfrm>
          <a:off x="717480" y="1425600"/>
          <a:ext cx="8763120" cy="494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7480" y="1425600"/>
                    <a:ext cx="87631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6"/>
          <p:cNvSpPr/>
          <p:nvPr/>
        </p:nvSpPr>
        <p:spPr>
          <a:xfrm>
            <a:off x="8217720" y="357120"/>
            <a:ext cx="128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риватизаці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810480" y="142920"/>
            <a:ext cx="268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 Cyr"/>
              </a:rPr>
              <a:t>Додаток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330120" y="228600"/>
            <a:ext cx="9194760" cy="990720"/>
            <a:chOff x="330120" y="228600"/>
            <a:chExt cx="9194760" cy="990720"/>
          </a:xfrm>
        </p:grpSpPr>
        <p:pic>
          <p:nvPicPr>
            <p:cNvPr id="98" name="Picture 3" descr="3zub"/>
            <p:cNvPicPr/>
            <p:nvPr/>
          </p:nvPicPr>
          <p:blipFill>
            <a:blip r:embed="rId1"/>
            <a:stretch/>
          </p:blipFill>
          <p:spPr>
            <a:xfrm>
              <a:off x="330120" y="228600"/>
              <a:ext cx="7858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4"/>
            <p:cNvSpPr/>
            <p:nvPr/>
          </p:nvSpPr>
          <p:spPr>
            <a:xfrm>
              <a:off x="1307160" y="228600"/>
              <a:ext cx="13021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ФОН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ДЕРЖАВНОГ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МАЙ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УКРАЇН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5"/>
            <p:cNvSpPr/>
            <p:nvPr/>
          </p:nvSpPr>
          <p:spPr>
            <a:xfrm>
              <a:off x="3200400" y="609480"/>
              <a:ext cx="6324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0"/>
          <p:cNvSpPr/>
          <p:nvPr/>
        </p:nvSpPr>
        <p:spPr>
          <a:xfrm>
            <a:off x="3524400" y="692280"/>
            <a:ext cx="5924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наміка надходження коштів до Державного бюджет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ід оренди державного май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9"/>
          <p:cNvGraphicFramePr/>
          <p:nvPr/>
        </p:nvGraphicFramePr>
        <p:xfrm>
          <a:off x="304920" y="1268280"/>
          <a:ext cx="9434520" cy="5054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68280"/>
                    <a:ext cx="943452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7062840" y="357120"/>
            <a:ext cx="243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 Cyr"/>
              </a:rPr>
              <a:t>Оренда державного май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166920" y="71280"/>
            <a:ext cx="633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 Cyr"/>
              </a:rPr>
              <a:t>Додаток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30120" y="228600"/>
            <a:ext cx="9194760" cy="990720"/>
            <a:chOff x="330120" y="228600"/>
            <a:chExt cx="9194760" cy="990720"/>
          </a:xfrm>
        </p:grpSpPr>
        <p:pic>
          <p:nvPicPr>
            <p:cNvPr id="107" name="Picture 3" descr="3zub"/>
            <p:cNvPicPr/>
            <p:nvPr/>
          </p:nvPicPr>
          <p:blipFill>
            <a:blip r:embed="rId1"/>
            <a:stretch/>
          </p:blipFill>
          <p:spPr>
            <a:xfrm>
              <a:off x="330120" y="228600"/>
              <a:ext cx="7858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4"/>
            <p:cNvSpPr/>
            <p:nvPr/>
          </p:nvSpPr>
          <p:spPr>
            <a:xfrm>
              <a:off x="1307160" y="228600"/>
              <a:ext cx="13021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ФОН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ДЕРЖАВНОГ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МАЙ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80"/>
                  </a:solidFill>
                  <a:latin typeface="Times New Roman Cyr"/>
                </a:rPr>
                <a:t>УКРАЇН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3200400" y="609480"/>
              <a:ext cx="6324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10"/>
          <p:cNvSpPr/>
          <p:nvPr/>
        </p:nvSpPr>
        <p:spPr>
          <a:xfrm>
            <a:off x="2381400" y="692280"/>
            <a:ext cx="72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наміка надходження дивідендів до Державног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у у 2000-20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рок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4"/>
          <p:cNvSpPr/>
          <p:nvPr/>
        </p:nvSpPr>
        <p:spPr>
          <a:xfrm flipV="1" rot="10800000">
            <a:off x="237600" y="6424560"/>
            <a:ext cx="947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* В тому числі 40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23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млн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грн. – компенсація за недоотримані дивіденди на корпоративні права держави, стягнуті з ВАТ “Міттал Стіл Кривий Ріг” в зв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язку з продажем ВАТ “Криворіжсталь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778440" y="357120"/>
            <a:ext cx="272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 Cyr"/>
              </a:rPr>
              <a:t>Корпоративні права держав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166920" y="71280"/>
            <a:ext cx="633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 Cyr"/>
              </a:rPr>
              <a:t>Додаток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9"/>
          <p:cNvGraphicFramePr/>
          <p:nvPr/>
        </p:nvGraphicFramePr>
        <p:xfrm>
          <a:off x="304920" y="1219320"/>
          <a:ext cx="9277200" cy="486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19320"/>
                    <a:ext cx="927720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8:17:38Z</dcterms:created>
  <dc:creator>well</dc:creator>
  <dc:description/>
  <dc:language>en-US</dc:language>
  <cp:lastModifiedBy>vlk</cp:lastModifiedBy>
  <cp:lastPrinted>2007-04-12T12:48:46Z</cp:lastPrinted>
  <dcterms:modified xsi:type="dcterms:W3CDTF">2012-03-14T13:00:46Z</dcterms:modified>
  <cp:revision>2277</cp:revision>
  <dc:subject/>
  <dc:title>Презентация PowerPoint</dc:title>
</cp:coreProperties>
</file>